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ADE-FC01-4E22-B5F3-7C2AE558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-level - direct transfer of phosphate to 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ve - formation of ATP using energy from series of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 - bacteria that cause botulism, tetanus, protist Trichonym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 - yeast, E. coli bacteria that live in our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sdbio.weebly.com/phtoresp1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actfictionfancy.wordpress.com/2010/01/05/photosynthe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5F1-E314-4540-9611-5A65FF1A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343-BCCC-4949-95AA-91F162D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C44-563E-46A1-B103-E356D43B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217-CF90-4226-9317-BC20A39E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F41-8501-4984-9263-55CDC74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C81-2159-4F6F-A37C-E655137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B07-B269-4351-8086-2CF52A6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BAB-5398-4366-A556-F79BD64C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5A5-09F1-4483-84C4-B085AAE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FAC-1DCD-4EC6-A3D2-0AABB0A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C64-682A-4FED-B817-10277FD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84A-FDD0-4652-99C2-EB65DCC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E8E-0308-4606-9BE4-2869D71B1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bligate aerob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7280" y="304920"/>
            <a:ext cx="435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85580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3-03-19T02:37:21Z</dcterms:modified>
  <cp:revision>63</cp:revision>
  <dc:subject/>
  <dc:title>Cellular Respiration</dc:title>
</cp:coreProperties>
</file>